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378-22A7-48E0-AD0A-9A0F20B9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0D2-740B-449A-BA55-558B234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2C4-C122-43D3-878F-F8A2D391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C96-DE94-4F8A-A133-2E6054B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91D-EFF9-49D7-9CAD-23AF10A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47CF-A8A9-4F60-A825-3A4FB49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EE1B-F967-4205-9521-01A2588A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B385-AF73-4E5B-87AF-84FD5D2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2EDE-50F5-42C5-94B3-2FAD07EF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816-AF2C-4542-A412-BB404E74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54B5-EF5B-43B1-AEB8-D7F1084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BFA-5FA1-4163-BB22-4CB0DC3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F81-E0D5-4695-B455-FA5D022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2031-E3E0-4B7E-A738-4E3CF70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8808-3EBE-4665-B907-8802328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3533-A5F6-4A0F-980B-77C6A139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FD2-C1CD-469C-A38D-D22E7BF9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8D7FB-5E88-4643-AC52-F36578DB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CBFE7-98C1-4EA4-A683-0865EC8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EF0E5-9762-44B8-85D1-795F762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466B0-77F4-41D7-A0F4-16732C06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8B1F5-9D67-47EB-AAD0-1D3BB11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E37-DE7C-42C8-AF33-B966C60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F5ED5-2072-471E-8D66-B62EEF8B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8F85F-6DAA-4729-BF34-AC0528CF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8EF48-BA03-4BC8-8C03-E60250A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A9BB4-505B-4AE8-BB7F-4BE971C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BBA7E-B848-4FA9-838C-D0EF617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A3C10-ACCB-42DD-A469-EF68542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1F189-A21B-4F14-81BA-DCE66389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5823-48BD-4B1D-8575-B87AEEE1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F84F-1030-460E-ABA9-A268300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8F90-1298-4A88-BD69-67344C3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55F-34DD-4762-83A1-B030C6B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24DD-6BE1-477D-A2E7-5675525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C71A-0A3F-4032-A477-3A25E088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BF94-D61B-444A-8DF2-979BD4F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0B8E-94D7-48D8-98E4-8F5C0BC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FB2B-340E-4159-88A9-9A9034C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61DE-BC9E-4B29-9BF6-0E786D6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D0FE-6D63-46DF-93EC-361782D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72C17-9B5A-403F-8569-738A381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D26C-A09E-4230-8EC5-9073114B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FAA-69E2-4121-AB6E-EBB48A7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AE8-66A7-466A-ADDC-377164A3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EBD-45B0-49CB-AFCA-72F3A3E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D24-56AA-4658-955C-2086D1AA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11B-EA76-4CFD-B05C-B2EEF84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BA6-E284-455B-80E0-1457BB71CCE0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94E8-7B92-48BF-A7D5-BE8D3F7698A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AF52-8939-41B6-903E-F78DEFA55E35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4D7-2BD6-4DF4-B2B1-3777D3B7FECC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407A-0AFE-46D2-A5D2-6419DF715C2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2BA-06C2-48FC-9521-BF9567E5BA0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B04-3132-4CF2-8A9F-3A753FCE83A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4732-5342-4728-ACB5-8CFC8146388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a022"/>
                </a:solidFill>
                <a:latin typeface="Century Gothic"/>
              </a:rPr>
              <a:t>With Appreci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1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From the Laidlaw Librar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3" descr="screenbooks.png"/>
          <p:cNvPicPr/>
          <p:nvPr/>
        </p:nvPicPr>
        <p:blipFill>
          <a:blip r:embed="rId1"/>
          <a:stretch/>
        </p:blipFill>
        <p:spPr>
          <a:xfrm>
            <a:off x="6269040" y="1935000"/>
            <a:ext cx="16606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lann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Converse with teachers and staf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Where is the biggest nee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Willing to collaborat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Closer look at collection through analysi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Find weak are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Patron interest – student and staf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Picture 7" descr="screenteacherred.png"/>
          <p:cNvPicPr/>
          <p:nvPr/>
        </p:nvPicPr>
        <p:blipFill>
          <a:blip r:embed="rId1"/>
          <a:stretch/>
        </p:blipFill>
        <p:spPr>
          <a:xfrm>
            <a:off x="3697200" y="415800"/>
            <a:ext cx="18972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700"/>
                </a:solidFill>
                <a:latin typeface="Century Gothic"/>
              </a:rPr>
              <a:t>Our School Commun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High achieving, high interest, high expectations across the boa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2010 - 95.4% students met or exceeded Illinois standards on standardized tes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Made the “Top 50 Schools in IL” lis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Ranked 28/ 2,192 in the st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5" descr="illinois.png"/>
          <p:cNvPicPr/>
          <p:nvPr/>
        </p:nvPicPr>
        <p:blipFill>
          <a:blip r:embed="rId1"/>
          <a:stretch/>
        </p:blipFill>
        <p:spPr>
          <a:xfrm>
            <a:off x="6637320" y="4089240"/>
            <a:ext cx="16365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94880" y="947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ollection Development Policy District 10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Lifelong lear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Support and enrich the educational progr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Diversity of appea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Take into consideration varied interests and abiliti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Stimulate growth in factual knowled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Well-balanced coverage of subjec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a022"/>
                </a:solidFill>
                <a:latin typeface="Century Gothic"/>
              </a:rPr>
              <a:t>Personal nee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14" descr="images.jpeg"/>
          <p:cNvPicPr/>
          <p:nvPr/>
        </p:nvPicPr>
        <p:blipFill>
          <a:blip r:embed="rId1"/>
          <a:stretch/>
        </p:blipFill>
        <p:spPr>
          <a:xfrm>
            <a:off x="7337520" y="5210280"/>
            <a:ext cx="965160" cy="928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images-1.jpeg"/>
          <p:cNvPicPr/>
          <p:nvPr/>
        </p:nvPicPr>
        <p:blipFill>
          <a:blip r:embed="rId2"/>
          <a:stretch/>
        </p:blipFill>
        <p:spPr>
          <a:xfrm>
            <a:off x="6600960" y="1436760"/>
            <a:ext cx="1325520" cy="993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images-2.jpeg"/>
          <p:cNvPicPr/>
          <p:nvPr/>
        </p:nvPicPr>
        <p:blipFill>
          <a:blip r:embed="rId3"/>
          <a:stretch/>
        </p:blipFill>
        <p:spPr>
          <a:xfrm>
            <a:off x="7284960" y="3067200"/>
            <a:ext cx="11574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2920" y="1007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9465"/>
                </a:solidFill>
                <a:latin typeface="Century Gothic"/>
              </a:rPr>
              <a:t>Overview &amp; Analysi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700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Century Gothic"/>
              </a:rPr>
              <a:t>The Ar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Draw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Pain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Musi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6b43"/>
                </a:solidFill>
                <a:latin typeface="Century Gothic"/>
              </a:rPr>
              <a:t>Performing Ar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8280" y="2313000"/>
            <a:ext cx="4635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1993 average ag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2</a:t>
            </a:r>
            <a:r>
              <a:rPr b="0" lang="en-US" sz="2200" spc="-1" strike="noStrike" baseline="30000">
                <a:solidFill>
                  <a:srgbClr val="7e844d"/>
                </a:solidFill>
                <a:latin typeface="Century Gothic"/>
              </a:rPr>
              <a:t>nd</a:t>
            </a: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 oldest classification in our libra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844d"/>
                </a:solidFill>
                <a:latin typeface="Century Gothic"/>
              </a:rPr>
              <a:t>Follet Library Resource Recommends 5% represent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56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usic Purcha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0221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Music from the Complete Book of Rhymes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Songs, Poems and Chants  (sound recordin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85a"/>
                </a:solidFill>
                <a:latin typeface="Century Gothic"/>
              </a:rPr>
              <a:t>Alphabet of Music (eBook)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Those Amazing Musical Instruments! Your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Guide to the Orchestra Through Sound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and Stories (hardcover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85a"/>
                </a:solidFill>
                <a:latin typeface="Century Gothic"/>
              </a:rPr>
              <a:t>The A to Z Symphony (video recordin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a022"/>
                </a:solidFill>
                <a:latin typeface="Century Gothic"/>
              </a:rPr>
              <a:t>Who was Wolfgang Amadeus Mozart? (hardcover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 rot="513600">
            <a:off x="7262280" y="1017360"/>
            <a:ext cx="1113120" cy="1384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6966000" y="2933640"/>
            <a:ext cx="1200240" cy="100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3"/>
          <a:stretch/>
        </p:blipFill>
        <p:spPr>
          <a:xfrm rot="20931600">
            <a:off x="6656400" y="4567320"/>
            <a:ext cx="171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75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rt Purcha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03832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13 Paintings Children Should Know -Wenze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6b43"/>
                </a:solidFill>
                <a:latin typeface="Century Gothic"/>
              </a:rPr>
              <a:t>Cool Sculpture: The Art of Creativity for Kids -Hans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Making Amazing Art! 40 Activities Using the 7 Elements of Art - Henr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6b43"/>
                </a:solidFill>
                <a:latin typeface="Century Gothic"/>
              </a:rPr>
              <a:t>Artist to Artist: 23 Major Illustrators Talk to Children About Their Art – Philomel Book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Global Art: Activities, Projects, and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bf4d00"/>
                </a:solidFill>
                <a:latin typeface="Century Gothic"/>
              </a:rPr>
              <a:t>Inventions from Around the World – Koh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6991200" y="820800"/>
            <a:ext cx="142272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6708600" y="5159520"/>
            <a:ext cx="1625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7887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a022"/>
                </a:solidFill>
                <a:latin typeface="Century Gothic"/>
              </a:rPr>
              <a:t>Thank you…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956b43"/>
                </a:solidFill>
                <a:latin typeface="Century Gothic"/>
              </a:rPr>
              <a:t>Art is my favorite thing to do because I can use my imagination…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6b43"/>
                </a:solidFill>
                <a:latin typeface="Century Gothic"/>
              </a:rPr>
              <a:t>Danny 4</a:t>
            </a:r>
            <a:r>
              <a:rPr b="0" lang="en-US" sz="1600" spc="-1" strike="noStrike" baseline="30000">
                <a:solidFill>
                  <a:srgbClr val="956b43"/>
                </a:solidFill>
                <a:latin typeface="Century Gothic"/>
              </a:rPr>
              <a:t>th</a:t>
            </a:r>
            <a:r>
              <a:rPr b="0" lang="en-US" sz="1600" spc="-1" strike="noStrike">
                <a:solidFill>
                  <a:srgbClr val="956b43"/>
                </a:solidFill>
                <a:latin typeface="Century Gothic"/>
              </a:rPr>
              <a:t> grader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73120" y="2134800"/>
            <a:ext cx="34196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c600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94c600"/>
                </a:solidFill>
                <a:latin typeface="Century Gothic"/>
              </a:rPr>
              <a:t>having fun and singing at school makes me be in a happy mood…”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c600"/>
                </a:solidFill>
                <a:latin typeface="Century Gothic"/>
              </a:rPr>
              <a:t>Annie 2</a:t>
            </a:r>
            <a:r>
              <a:rPr b="0" lang="en-US" sz="1600" spc="-1" strike="noStrike" baseline="30000">
                <a:solidFill>
                  <a:srgbClr val="94c600"/>
                </a:solidFill>
                <a:latin typeface="Century Gothic"/>
              </a:rPr>
              <a:t>nd</a:t>
            </a:r>
            <a:r>
              <a:rPr b="0" lang="en-US" sz="1600" spc="-1" strike="noStrike">
                <a:solidFill>
                  <a:srgbClr val="94c600"/>
                </a:solidFill>
                <a:latin typeface="Century Gothic"/>
              </a:rPr>
              <a:t> grader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2986200" y="3962520"/>
            <a:ext cx="2087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3:00:58Z</dcterms:created>
  <dc:creator>Western Springs</dc:creator>
  <dc:description/>
  <dc:language>en-US</dc:language>
  <cp:lastModifiedBy>Western Springs</cp:lastModifiedBy>
  <dcterms:modified xsi:type="dcterms:W3CDTF">2011-11-16T21:12:23Z</dcterms:modified>
  <cp:revision>44</cp:revision>
  <dc:subject/>
  <dc:title>With Appreciation</dc:title>
</cp:coreProperties>
</file>